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4EE-8ACD-4900-9079-04C28C86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882-CE9D-4DF9-89AA-BCFCEAE2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935-CE0C-4371-AF5C-76483852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809-03E5-42FB-957A-B60BC7D7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23C-405B-4F71-BE95-2800550B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67E8-AA72-4090-942F-AF4E2F1E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55EC-44A6-40EF-90FB-127A42CB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B1E-B1CC-4549-A210-9C3A5A15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971-B0FD-4740-B022-D34E6E8D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C72-BCBD-43BF-AEDD-F3C7BBEE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42FC-B590-46F0-A179-7D8A766F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9AD-6713-46AD-9B0C-CAF6E8BD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AE14-5422-4272-B0C2-533E4AA8B22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د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وحدود الاستفادة من النسب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BFF-DE87-4B59-8783-E3D53E49E976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879480"/>
            <a:ext cx="7772760" cy="69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2421000"/>
            <a:ext cx="369720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رارات شراء أو بيع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ربحية والسي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3747960"/>
            <a:ext cx="273672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ارباح المحققة (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EPS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ي الرب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3718080"/>
            <a:ext cx="2521080" cy="20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عائد الحقيقي لل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بلغ الموز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ة السوق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716280"/>
            <a:ext cx="2592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5300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5720" y="4970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AD2-3612-4E19-97CD-653E48060E47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809640"/>
            <a:ext cx="7772760" cy="78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دائنون والبن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514600"/>
            <a:ext cx="44654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مساعدة على منح الائتمان من عدم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930480"/>
            <a:ext cx="7488360" cy="223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سب القروض الى حقوق المساهم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تدا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خز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دين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0EB-B17B-401A-B2B9-27507C5AF3A3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985680"/>
            <a:ext cx="7772760" cy="716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دارة المنشأ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16320"/>
            <a:ext cx="7775280" cy="367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نصيب السهم من الأر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العائد على حقوق المل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قروض الى حقوق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رأس ال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اص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542-DE9B-4B52-8400-E6964B263EB1}" type="slidenum">
              <a:t>4</a:t>
            </a:fld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275840"/>
            <a:ext cx="7772760" cy="71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احص الضري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900520"/>
            <a:ext cx="8001000" cy="2328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سترشاد بالنسب المالية للمساعدة على الاطمئنان الى صحة 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ص الرواتب ومقارنتها باجمالي الدخل ومقارنتها مع السنة الساب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FFF-DC5C-464B-AA07-1CD014138949}" type="slidenum">
              <a:t>5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56960"/>
            <a:ext cx="7772760" cy="74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429000"/>
            <a:ext cx="7848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اعدة في ابداء الرأ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72A-6CEE-4A7D-A4B5-3EF60C12F0BA}" type="slidenum">
              <a:t>6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915920"/>
            <a:ext cx="777276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خيرا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500280"/>
            <a:ext cx="777528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من النسب المالية في الت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ؤ بنجاح أو ف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F664-D161-4709-8D67-75B51E0370C8}" type="slidenum">
              <a:t>7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907920"/>
            <a:ext cx="7772400" cy="1081080"/>
          </a:xfrm>
          <a:prstGeom prst="downArrowCallout">
            <a:avLst>
              <a:gd name="adj1" fmla="val -177836"/>
              <a:gd name="adj2" fmla="val 179737"/>
              <a:gd name="adj3" fmla="val 16667"/>
              <a:gd name="adj4" fmla="val 6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استفادة من التحليل الم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2205000"/>
            <a:ext cx="7775280" cy="37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سياسات و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بي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حجم المشرو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صناع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طبيعة النسب المالية وتركيب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حلل المال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ستفيدين من التحليل الم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6A3E-4BA5-4D57-9F33-8D19698535E3}" type="slidenum">
              <a:t>8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57:27Z</dcterms:modified>
  <cp:revision>28</cp:revision>
  <dc:subject/>
  <dc:title>التحليل المالي والائتماني</dc:title>
</cp:coreProperties>
</file>